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2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717-B300-43C9-826C-0E2298D7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91C-53AF-4B46-95F1-532689CE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CE1B-B668-4CF8-BE9D-2A2F7A29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2E3C-A769-4EDB-9ABF-09297013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9E33-4A2A-4DE4-9AC0-F9C936B3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AAB4-4B37-4098-8DE4-1DB4E5E8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B202-BF02-4DE9-9D51-5DCB25FB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96FF-9B33-49C5-87A4-1C48E1B9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2F6B-03BB-4A10-BE70-A77AF98A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FF7F-9050-4984-BE5C-22C3DBBF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EB0F-E711-4DFD-9E1E-1A814D00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F8DC-7FA8-4A64-82E4-39F4733E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2E4A-4F61-4F65-9EB3-C42DB38E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5F3F-F5BF-4A6A-A5BA-B6060A86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388F-7D9F-43F5-9A74-EA55053E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400C-F6CC-44C2-84F9-D670331E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1EF6-69C8-432B-ACA3-333225CA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AB4-79CF-4169-BA68-75D0DA56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727-3FCC-4372-BA38-7E15AE81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B28-12F7-4501-800E-51FF3EF7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CBE-3627-4601-A230-9F44DC19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3C4B-4A2A-4F59-95F0-B9DAFD9D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A14-FA67-47A9-84C4-34250A14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7F0B-92CA-4831-9BEB-1826C577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B853-088A-4DA6-B39F-64897941B1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3796-66A7-496B-A162-BDEB95F493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carbon+dioxide&amp;source=images&amp;cd=&amp;cad=rja&amp;docid=_fAkCVRCz6ZDHM&amp;tbnid=0B8uuCUtWtyAVM:&amp;ved=0CAUQjRw&amp;url=http%3A%2F%2Fwww.telegraph.co.uk%2Fearth%2Fearthnews%2F5257162%2FPower-plants-could-store-carbon-dioxide-under-North-Sea.html&amp;ei=3-VvUef4Aq264AON7IDgAQ&amp;bvm=bv.45368065,d.dmg&amp;psig=AFQjCNHaEdPM51lpr_MX7KCDu793Ut1HMw&amp;ust=1366374233818824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sodium&amp;source=images&amp;cd=&amp;cad=rja&amp;docid=g7x4cZglltb0PM&amp;tbnid=36EA-6_MWrArJM:&amp;ved=0CAUQjRw&amp;url=http%3A%2F%2Fwww.vanderkrogt.net%2Felements%2Felement.php%3Fsym%3DNa&amp;ei=Q-JvUb30NM2g4APN-IGYDQ&amp;bvm=bv.45368065,d.dmg&amp;psig=AFQjCNEku7cwOoMq5J0loNaZQ6cZneRZzA&amp;ust=1366373305288995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com/url?sa=i&amp;rct=j&amp;q=carbon+dioxide&amp;source=images&amp;cd=&amp;cad=rja&amp;docid=ZpBUfJUD4z9F0M&amp;tbnid=5k_he8Zyd2S3IM:&amp;ved=0CAUQjRw&amp;url=http%3A%2F%2Fblogs.e-rockford.com%2Fapplesauce%2F2013%2F03%2F06%2Fsharp-increase-in-atmospheric-carbon-dioxide-brings-climate-catastrophe-closer%2F&amp;ei=ceJvUeTPJvLG4AP2xYHIBw&amp;bvm=bv.45368065,d.dmg&amp;psig=AFQjCNGX8PzGixc2iG7QJXyniQuhZaQJKA&amp;ust=1366373352976013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Quant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olume and the 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32588093"/>
          <p:cNvPicPr/>
          <p:nvPr/>
        </p:nvPicPr>
        <p:blipFill>
          <a:blip r:embed="rId1"/>
          <a:stretch/>
        </p:blipFill>
        <p:spPr>
          <a:xfrm>
            <a:off x="1371600" y="3809880"/>
            <a:ext cx="263052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533520" y="152388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Avogadro, the mass of one mole of a gas at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lways 22.4L regardless of the gas’ ident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203480" y="338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90240" y="3200400"/>
            <a:ext cx="69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P = Standard Temperature and Pressure (0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 and 1 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6a00d83453c2c669e20134885f52fb970c-800wi"/>
          <p:cNvPicPr/>
          <p:nvPr/>
        </p:nvPicPr>
        <p:blipFill>
          <a:blip r:embed="rId2"/>
          <a:stretch/>
        </p:blipFill>
        <p:spPr>
          <a:xfrm>
            <a:off x="4800600" y="3962520"/>
            <a:ext cx="2556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le-Volume Conver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2057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440" indent="-109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moles of CO are contained in 1.8L of CO g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Liters of 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represented by 0.5 moles of 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http://i.telegraph.co.uk/multimedia/archive/01395/Carbon-dioxide_1395149c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228600"/>
            <a:ext cx="2678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ulti-Step Conver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http://blogs.reeths-puffer.org/knappk/files/2011/12/MoleRoadMap.png"/>
          <p:cNvPicPr/>
          <p:nvPr/>
        </p:nvPicPr>
        <p:blipFill>
          <a:blip r:embed="rId1"/>
          <a:stretch/>
        </p:blipFill>
        <p:spPr>
          <a:xfrm>
            <a:off x="1096920" y="1832040"/>
            <a:ext cx="3689280" cy="30304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0"/>
          <p:cNvSpPr/>
          <p:nvPr/>
        </p:nvSpPr>
        <p:spPr>
          <a:xfrm>
            <a:off x="2842920" y="33526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ole = 6.02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-226800" y="3352680"/>
            <a:ext cx="22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ole = molar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1561320" y="144792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ole = 22.4 L at S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571320" y="5105520"/>
            <a:ext cx="70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ass of 1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oms of Alumin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rm-up #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733920" y="2133360"/>
            <a:ext cx="48765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ercentage of a tootsie roll pop is made up of carbohydr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2254320" cy="4608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772000" cy="981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3809520" y="396216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15/17= 8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termining the Percent Composition of a Compou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215120" cy="6717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96560" y="3048120"/>
            <a:ext cx="832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percent composition of aluminum in aluminum oxid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7737480" cy="6094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3"/>
          <a:stretch/>
        </p:blipFill>
        <p:spPr>
          <a:xfrm>
            <a:off x="2971800" y="4648320"/>
            <a:ext cx="2163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ich of the following contains the greatest percent of lithium by mas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th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O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304920" y="2971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7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1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457200" y="5867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29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rm-up #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Content Placeholder 2" descr=""/>
          <p:cNvPicPr/>
          <p:nvPr/>
        </p:nvPicPr>
        <p:blipFill>
          <a:blip r:embed="rId1"/>
          <a:stretch/>
        </p:blipFill>
        <p:spPr>
          <a:xfrm>
            <a:off x="171360" y="2938320"/>
            <a:ext cx="8515440" cy="3157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http://www.fsusd.org/cms/lib03/CA01001943/Centricity/Domain/743/math.gif"/>
          <p:cNvPicPr/>
          <p:nvPr/>
        </p:nvPicPr>
        <p:blipFill>
          <a:blip r:embed="rId2"/>
          <a:stretch/>
        </p:blipFill>
        <p:spPr>
          <a:xfrm>
            <a:off x="5334120" y="609480"/>
            <a:ext cx="38098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15998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formula which contains the lowest whole number ratio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885240" y="2743200"/>
            <a:ext cx="80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ic formulas always contain the lowest whole number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compounds do not always contain the lowest whole number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990720" y="36576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Empirical Formula of the following compoun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523880" y="441972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9625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5867280" y="441972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termining Empircal Formul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mical formula of a compound can be found if the percent composition of the compound is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that percent = 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grams to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lowest whole number ratio of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the chem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formula for a compound that contains 59% Na and 41% 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640080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1143000" y="3352680"/>
            <a:ext cx="5867280" cy="9702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7"/>
          <p:cNvGrpSpPr/>
          <p:nvPr/>
        </p:nvGrpSpPr>
        <p:grpSpPr>
          <a:xfrm>
            <a:off x="1219320" y="4800600"/>
            <a:ext cx="6391080" cy="1838160"/>
            <a:chOff x="1219320" y="4800600"/>
            <a:chExt cx="6391080" cy="1838160"/>
          </a:xfrm>
        </p:grpSpPr>
        <p:sp>
          <p:nvSpPr>
            <p:cNvPr id="194" name="TextBox 14"/>
            <p:cNvSpPr/>
            <p:nvPr/>
          </p:nvSpPr>
          <p:spPr>
            <a:xfrm>
              <a:off x="3276720" y="5410080"/>
              <a:ext cx="205740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5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12" descr=""/>
            <p:cNvPicPr/>
            <p:nvPr/>
          </p:nvPicPr>
          <p:blipFill>
            <a:blip r:embed="rId3"/>
            <a:stretch/>
          </p:blipFill>
          <p:spPr>
            <a:xfrm>
              <a:off x="1219320" y="4952880"/>
              <a:ext cx="1290960" cy="16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3" descr=""/>
            <p:cNvPicPr/>
            <p:nvPr/>
          </p:nvPicPr>
          <p:blipFill>
            <a:blip r:embed="rId4"/>
            <a:stretch/>
          </p:blipFill>
          <p:spPr>
            <a:xfrm>
              <a:off x="5715000" y="4800600"/>
              <a:ext cx="1895400" cy="183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all these things have in common with the m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Donuts"/>
          <p:cNvPicPr/>
          <p:nvPr/>
        </p:nvPicPr>
        <p:blipFill>
          <a:blip r:embed="rId1"/>
          <a:stretch/>
        </p:blipFill>
        <p:spPr>
          <a:xfrm>
            <a:off x="914400" y="3465360"/>
            <a:ext cx="2319480" cy="1760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ANd9GcRQlmY-IEAeUfCcA09UlJJodBB9jxZ6sdjOLeAE5c3R-zJi7FwIlg&amp;t=1"/>
          <p:cNvPicPr/>
          <p:nvPr/>
        </p:nvPicPr>
        <p:blipFill>
          <a:blip r:embed="rId2"/>
          <a:stretch/>
        </p:blipFill>
        <p:spPr>
          <a:xfrm>
            <a:off x="3581280" y="3429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COKE"/>
          <p:cNvPicPr/>
          <p:nvPr/>
        </p:nvPicPr>
        <p:blipFill>
          <a:blip r:embed="rId3"/>
          <a:stretch/>
        </p:blipFill>
        <p:spPr>
          <a:xfrm>
            <a:off x="6248520" y="3429000"/>
            <a:ext cx="2381040" cy="1847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0"/>
          <p:cNvSpPr/>
          <p:nvPr/>
        </p:nvSpPr>
        <p:spPr>
          <a:xfrm>
            <a:off x="1530720" y="54100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d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4425120" y="54100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7018200" y="54100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six 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1905120" y="6095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swer: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ll represent qua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387000" y="457200"/>
            <a:ext cx="325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asuring Mat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m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e (mol) is the SI base unit used to measure the amount of a sub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ol = 6.02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ative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02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Avogadro’s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ve particles are the units used in these conver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352680" y="5410080"/>
            <a:ext cx="32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les N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291240" y="6019920"/>
            <a:ext cx="851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s, formula units (ionic compounds), molecules (covalent compou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http://profitablegrowth.com/wp-content/uploads/2010/01/Mole.jpg"/>
          <p:cNvPicPr/>
          <p:nvPr/>
        </p:nvPicPr>
        <p:blipFill>
          <a:blip r:embed="rId1"/>
          <a:stretch/>
        </p:blipFill>
        <p:spPr>
          <a:xfrm>
            <a:off x="6248520" y="228600"/>
            <a:ext cx="24382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le to Particle Conver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olecules of water are there in 2.4 moles of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oles of copper contain 3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pper ato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1922400" y="13716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mole = 6.02 x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3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rm-up #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0880" y="14479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ss of this bicycle given the mass of it’s individual par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wheel = 0.5 kg, 1frame = 5 kg, 1seat = 0.2 k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et of handlebars = 1k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s://encrypted-tbn1.gstatic.com/images?q=tbn:ANd9GcQGIztAjwxNlDwEOyqzqlI4mnrvcRXlSlRZ_dylHPG2d_ypkjedLg"/>
          <p:cNvPicPr/>
          <p:nvPr/>
        </p:nvPicPr>
        <p:blipFill>
          <a:blip r:embed="rId1"/>
          <a:stretch/>
        </p:blipFill>
        <p:spPr>
          <a:xfrm>
            <a:off x="2208240" y="3657600"/>
            <a:ext cx="4159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ss and the 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lead"/>
          <p:cNvPicPr/>
          <p:nvPr/>
        </p:nvPicPr>
        <p:blipFill>
          <a:blip r:embed="rId1"/>
          <a:stretch/>
        </p:blipFill>
        <p:spPr>
          <a:xfrm>
            <a:off x="533520" y="3406680"/>
            <a:ext cx="2209680" cy="1770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Copper"/>
          <p:cNvPicPr/>
          <p:nvPr/>
        </p:nvPicPr>
        <p:blipFill>
          <a:blip r:embed="rId2"/>
          <a:stretch/>
        </p:blipFill>
        <p:spPr>
          <a:xfrm>
            <a:off x="6172200" y="3352680"/>
            <a:ext cx="2362320" cy="1944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609480" y="14479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s of one mole of a substance is unique to that substance and is based on the sum of the atomic masses of the elements in that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water"/>
          <p:cNvPicPr/>
          <p:nvPr/>
        </p:nvPicPr>
        <p:blipFill>
          <a:blip r:embed="rId3"/>
          <a:stretch/>
        </p:blipFill>
        <p:spPr>
          <a:xfrm>
            <a:off x="3276720" y="3352680"/>
            <a:ext cx="2361960" cy="1890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5"/>
          <p:cNvSpPr/>
          <p:nvPr/>
        </p:nvSpPr>
        <p:spPr>
          <a:xfrm>
            <a:off x="228600" y="5486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le of lead = 207.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3200400" y="5486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le of water = 18.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6172200" y="5410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le of copper = 63.6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921960" y="6019920"/>
            <a:ext cx="7517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7ff"/>
                </a:solidFill>
                <a:latin typeface="Arial"/>
              </a:rPr>
              <a:t>Mass of H</a:t>
            </a:r>
            <a:r>
              <a:rPr b="0" lang="en-US" sz="1800" spc="-1" strike="noStrike" baseline="-25000">
                <a:solidFill>
                  <a:srgbClr val="0707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707ff"/>
                </a:solidFill>
                <a:latin typeface="Arial"/>
              </a:rPr>
              <a:t>O = mass of two hydrogen atoms + mass of one oxygen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lculating Molar Ma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0520" y="1447560"/>
            <a:ext cx="7396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ar mass of elements is equal to their atomic mass from 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1 mole of Fe atoms = 55.847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ar mass of compounds is equal to the sum of the atomic masses of the individual elements in that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1 mole of 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 x 55.847) + (3 x 32.066) + (12 x 15.999) = 401.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7315200" y="2666880"/>
            <a:ext cx="138096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le-Mass Conver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447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mole-particle conversions where the conversion factor is always 1mole = 6.0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les, each mole-mass conversion factor is unique to the substance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414000" y="3048120"/>
            <a:ext cx="69105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 2.3 moles of sodium (Na) to grams of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10.0 g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oles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www.vanderkrogt.net/elements/images/elements/Na_sodiu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3581280"/>
            <a:ext cx="1712880" cy="1219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http://t1.gstatic.com/images?q=tbn:ANd9GcTXe0tqkpQfm6m18w499582XbqLMdXfLrurcUt8BMRnnxzhx8r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5295960"/>
            <a:ext cx="16761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rm-up #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685800" y="1752480"/>
            <a:ext cx="662940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ntains more representative particles, a mole of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a mol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?</a:t>
            </a:r>
            <a:r>
              <a:rPr b="0" lang="en-US" sz="3200" spc="-1" strike="noStrike">
                <a:solidFill>
                  <a:srgbClr val="0707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://www.waste.katalyst-tt.com/sites/default/files/WebPics/Chemicals.png"/>
          <p:cNvPicPr/>
          <p:nvPr/>
        </p:nvPicPr>
        <p:blipFill>
          <a:blip r:embed="rId1"/>
          <a:stretch/>
        </p:blipFill>
        <p:spPr>
          <a:xfrm>
            <a:off x="4686480" y="2981160"/>
            <a:ext cx="4457520" cy="38768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609480" y="388620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swer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 Question.  They contain the same number of representative parti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3:39:21Z</dcterms:created>
  <dc:creator>udsd</dc:creator>
  <dc:description/>
  <dc:language>en-US</dc:language>
  <cp:lastModifiedBy>Dawn</cp:lastModifiedBy>
  <dcterms:modified xsi:type="dcterms:W3CDTF">2014-03-16T23:52:43Z</dcterms:modified>
  <cp:revision>58</cp:revision>
  <dc:subject/>
  <dc:title>The Mole</dc:title>
</cp:coreProperties>
</file>